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999-3267-4C63-AA8B-7DF8CF23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954-B3C9-47B8-929C-337581B1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DB9-D42D-4CB0-B3E7-12EF26C2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96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44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96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44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B50B-C180-406C-BB1A-A8ADBC9E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A83-5267-4EA1-8543-7EEED1E7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96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844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96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844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F0F-3D5C-4B2C-951A-C2173760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CB5-66B5-432A-B921-158F8647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D7B-726F-4B4B-A5EB-326C821B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5AD-3B22-4EE6-BEAD-04BD7B9D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848-5C2D-4BCC-A499-DC785AE7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DDF-131D-453F-8E95-DA6DEF5E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995-7E20-4CD2-9033-F7746C74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89720"/>
            <a:ext cx="9360000" cy="55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41472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7692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4880" indent="-33948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97400" indent="-33948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12120" indent="-30168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112120" indent="-3016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112120" indent="-3016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560" y="6497280"/>
            <a:ext cx="216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2360" y="6497280"/>
            <a:ext cx="540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72360" y="6497280"/>
            <a:ext cx="7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1B15-2E8A-487C-955C-4C3DB4606F8A}" type="slidenum">
              <a:rPr b="1" lang="it-IT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589720"/>
            <a:ext cx="9325080" cy="1368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239400" cy="198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200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0" lang="en-US" sz="40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54440" y="5800680"/>
            <a:ext cx="1633680" cy="868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989000"/>
            <a:ext cx="79246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9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99"/>
                </a:solidFill>
                <a:latin typeface="Arial Unicode MS"/>
              </a:rPr>
              <a:t>Informatica per le Scienze Umane</a:t>
            </a:r>
            <a:br>
              <a:rPr sz="4000"/>
            </a:br>
            <a:r>
              <a:rPr b="0" i="1" lang="it-IT" sz="3600" spc="-1" strike="noStrike">
                <a:solidFill>
                  <a:srgbClr val="ffcc99"/>
                </a:solidFill>
                <a:latin typeface="Arial Unicode MS"/>
              </a:rPr>
              <a:t>laboratorio</a:t>
            </a:r>
            <a:endParaRPr b="0" lang="en-US" sz="36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Modelli dei dati per le Scienze Uman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Alessandro Lenci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Dipartimento di Linguistica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i tabell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523880"/>
            <a:ext cx="807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TABLE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Dizionario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omeDizionario varchar (100) PRIMARY KE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asaEditrice varchar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REFERENCES CasaEditrice(nom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lingua varchar(50)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an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umeroVoci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HECK (anno&gt;=1980 and anno&lt;=200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2362320"/>
            <a:ext cx="129528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800600" cy="2682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809880" y="5334120"/>
            <a:ext cx="6858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844800"/>
            <a:ext cx="4648320" cy="2563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i tabell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807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TABLE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Dizionario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omeDizionario varchar (100) PRIMARY KE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asaEditrice varchar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REFERENCES CasaEditrice(nom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lingua varchar(50)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an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umeroVoci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HECK (anno&gt;=1980 and anno&lt;=200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3048120"/>
            <a:ext cx="373392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5257800"/>
            <a:ext cx="26668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i tabell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523880"/>
            <a:ext cx="807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TABLE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Dizionario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omeDizionario varchar (100) PRIMARY KE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asaEditrice varchar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REFERENCES CasaEditrice(nom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lingua varchar(50)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an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umeroVoci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HECK (anno&gt;=1980 and anno&lt;=200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057400"/>
            <a:ext cx="434340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90920" y="3589200"/>
            <a:ext cx="3733560" cy="2799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2362320" y="5562720"/>
            <a:ext cx="26668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</a:t>
            </a:r>
            <a:br>
              <a:rPr sz="3200"/>
            </a:br>
            <a:r>
              <a:rPr b="1" lang="it-IT" sz="2400" spc="-1" strike="noStrike">
                <a:solidFill>
                  <a:srgbClr val="ffcc99"/>
                </a:solidFill>
                <a:latin typeface="Arial Unicode MS"/>
              </a:rPr>
              <a:t>alcuni esempi di entrate</a:t>
            </a:r>
            <a:endParaRPr b="1" lang="en-US" sz="24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588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n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.m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F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imale domestico molto comune: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l c. abbai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enere il c. al guinzagli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TS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arm.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lle armi da fuoco, martelletto che provoca lo sparo: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ollevare il 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276720"/>
            <a:ext cx="8077320" cy="2666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iud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.tr., v.in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.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F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ostare gli elementi mobili di porte e finestre …: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. la p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F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zionare l’interruttore o la chiave che impedisce il flusso di qcs.: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. il rubine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v.in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F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essare l’attività o interromperla temporaneamente: il negozio ha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T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lit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troncare ogni possibilità di collaborazione con altre forze politiche o sociali: il governo ha c. a sini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Sinonimi: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I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barricare, bloccare, serrare, …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pegn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[pass.rem.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hius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hiudest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…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.pass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hius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Analisi dei Requisiti</a:t>
            </a:r>
            <a:br>
              <a:rPr sz="3200"/>
            </a:br>
            <a:r>
              <a:rPr b="1" lang="it-IT" sz="2400" spc="-1" strike="noStrike">
                <a:solidFill>
                  <a:srgbClr val="ffcc99"/>
                </a:solidFill>
                <a:latin typeface="Arial Unicode MS"/>
              </a:rPr>
              <a:t>struttura della voce</a:t>
            </a:r>
            <a:endParaRPr b="1" lang="en-US" sz="24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gni voce di dizionario è identificata da un lemma e contiene un numero 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di sens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 sensi sono identificati da un numero univoco dentro la voce. I sensi possono essere descritti attraverso marche di tipo diverso che ne esplicitano la variabilità d’uso, il dominio tematico, ec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gni senso è descritto da una glossa (definizione) e può essere ulteriormente specificato tramite l’aggiunta di esempi d’uso. Un senso può anche avere un suo codice grammatica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 voci possono contenere indicazioni sulle eventuali forme flesse del lemma. Ogni forma ha associato un codice che ne descrive le caratteristiche morfologic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 di Query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9214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41472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Query By Examp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struzione guidata di una query in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terpretata in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41472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Elencare la descrizione dei codici grammaticali  verbali associati ai sensi attestati nel dizionari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206960"/>
            <a:ext cx="5257800" cy="1808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SELECT DISTINCT Senso.codiceGrammaticale, CodiceGrammaticale.descrizioneCo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FROM CodiceGrammaticale JOIN Senso ON CodiceGrammaticale.nomeCodice = Senso.codiceGrammati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WHERE Senso.codiceGrammaticale Like "v.*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Query By Examp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7400" y="2558880"/>
            <a:ext cx="6934320" cy="34610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228600" y="4911840"/>
            <a:ext cx="1143000" cy="337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768840"/>
            <a:ext cx="1143000" cy="337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2743200"/>
            <a:ext cx="1143000" cy="337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JO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5978520"/>
            <a:ext cx="1219320" cy="337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5105520"/>
            <a:ext cx="10666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962520"/>
            <a:ext cx="99072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895480"/>
            <a:ext cx="26668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2895480"/>
            <a:ext cx="0" cy="9144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1752480"/>
            <a:ext cx="1143000" cy="337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ISTIN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2133720"/>
            <a:ext cx="0" cy="16002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5486400"/>
            <a:ext cx="1219320" cy="337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ORDER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5866920"/>
            <a:ext cx="990360" cy="304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447920" y="5409720"/>
            <a:ext cx="68580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 di Query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DB voce di dizionari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rovare le voci che anno un senso marcato con il codice “CO” (Comu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rovare le forme del passato remoto delle voci che hanno un senso marcato con il codice “C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formazione e Scienze Uman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formazione struttur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iziona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sau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formazione non strutturata (debolmente strutturata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ocumenti testu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ibri, giornali, pagine web, conversazioni, e-mail, chat, ec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Meta-informazio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epertori bibliograf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ataloghi on-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Obiettivo delle Esercitazion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518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rogettare e costruire con MS Access una base di dati per la creazione e gestione di un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dizionario elettronic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rticolazione delle vo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truttura del dizion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query dei d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rogettare e costruire con MS Access una base di dati per la gestione di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testi digital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formazioni metatestu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truttura del testo nel base di d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notazioni linguistiche sul te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query dei d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Progettazione di una Base di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828800"/>
            <a:ext cx="2438280" cy="380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nalisi dei requis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2286000"/>
            <a:ext cx="1066680" cy="6858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2240" y="3048120"/>
            <a:ext cx="221004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schema concettu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(diagramma delle class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62240" y="449568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schema lo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(modello relazion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0" idx="2"/>
            <a:endCxn id="92" idx="0"/>
          </p:cNvCxnSpPr>
          <p:nvPr/>
        </p:nvCxnSpPr>
        <p:spPr>
          <a:xfrm>
            <a:off x="4266720" y="2209320"/>
            <a:ext cx="1080" cy="839160"/>
          </a:xfrm>
          <a:prstGeom prst="straightConnector1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343400" y="25146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azione concettu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25146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2"/>
            <a:endCxn id="93" idx="0"/>
          </p:cNvCxnSpPr>
          <p:nvPr/>
        </p:nvCxnSpPr>
        <p:spPr>
          <a:xfrm>
            <a:off x="4266720" y="3581280"/>
            <a:ext cx="1080" cy="915120"/>
          </a:xfrm>
          <a:prstGeom prst="straightConnector1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343400" y="38862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azione lo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2240" y="5791320"/>
            <a:ext cx="221004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ase dei D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3" idx="2"/>
            <a:endCxn id="99" idx="0"/>
          </p:cNvCxnSpPr>
          <p:nvPr/>
        </p:nvCxnSpPr>
        <p:spPr>
          <a:xfrm>
            <a:off x="4266720" y="5028840"/>
            <a:ext cx="1080" cy="762840"/>
          </a:xfrm>
          <a:prstGeom prst="straightConnector1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4343400" y="52578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azione fis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Analisi dei Requisiti</a:t>
            </a:r>
            <a:br>
              <a:rPr sz="3200"/>
            </a:br>
            <a:r>
              <a:rPr b="1" lang="it-IT" sz="2400" spc="-1" strike="noStrike">
                <a:solidFill>
                  <a:srgbClr val="ffcc99"/>
                </a:solidFill>
                <a:latin typeface="Arial Unicode MS"/>
              </a:rPr>
              <a:t>struttura generale</a:t>
            </a:r>
            <a:endParaRPr b="1" lang="en-US" sz="24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gni dizionario è caratterizzato da un titolo, una lingua, una casa editrice, una data di pubblicazione, e un numero di vo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 case editrici si trovano in una città e hanno un responsab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gni dizionario ha uno o più curatori che sono docenti universitar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 docenti provengono da un’università e sono titolari di un cors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elle tabel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823760"/>
            <a:ext cx="7921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Tabella “Dizionario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Attribut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ome del dizionario (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chiave primari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asa editrice (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chiave esterna – integrità referenziale con 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tabella “Casa editrice”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ingua (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obbligato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no di pubblicazione (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compreso tra il 1980 e il 2004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umero vo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i tabell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523880"/>
            <a:ext cx="807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TABLE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Dizionario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omeDizionario varchar (100) PRIMARY KE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asaEditrice varchar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REFERENCES CasaEditrice(nom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lingua varchar(50)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an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umeroVoci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HECK (anno&gt;=1980 and anno&lt;=200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4419720" cy="27446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i tabell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523880"/>
            <a:ext cx="807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TABLE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Dizionario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omeDizionario varchar (100) PRIMARY KE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asaEditrice varchar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REFERENCES CasaEditrice(nom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lingua varchar(50)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an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umeroVoci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HECK (anno&gt;=1980 and anno&lt;=200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1600200"/>
            <a:ext cx="205740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4419720" cy="27446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2133720" y="3886200"/>
            <a:ext cx="68580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i tabell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523880"/>
            <a:ext cx="807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TABLE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Dizionario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omeDizionario varchar (100) PRIMARY KE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asaEditrice varchar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REFERENCES CasaEditrice(nom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lingua varchar(50)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an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umeroVoci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HECK (anno&gt;=1980 and anno&lt;=200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362320"/>
            <a:ext cx="76176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800600" cy="2682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3809880" y="4038480"/>
            <a:ext cx="68580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08:39:40Z</dcterms:created>
  <dc:creator>Alessandro Lenci</dc:creator>
  <dc:description/>
  <dc:language>en-US</dc:language>
  <cp:lastModifiedBy> </cp:lastModifiedBy>
  <dcterms:modified xsi:type="dcterms:W3CDTF">2007-11-28T20:26:32Z</dcterms:modified>
  <cp:revision>34</cp:revision>
  <dc:subject/>
  <dc:title>Informatica per le Scienze Umane laboratorio</dc:title>
</cp:coreProperties>
</file>